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F9EC-C119-4265-AECD-6013980C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2066-CB70-4CF2-87BB-56EA0DDA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C826-93B4-4564-B02B-450754A0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647E-30AF-4095-A45E-7D3F33DC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5121-A99A-4AC3-939C-30467B29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B8D0-52D8-44B1-B77A-76514396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8D36-6DD0-48FE-BB28-D7B3FC77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85C9-0583-43F6-8732-2208B5F6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91CD-113C-4BAE-9F1B-2E83DF31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5F79-90D4-4E11-BAA8-8FD76646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E0B1-4F4D-4BFD-9ED2-551605FB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E806-5C13-4E76-92AA-DAA4B75E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A175-5EFB-43C9-9A92-D3108EBFA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1640" y="907920"/>
            <a:ext cx="4321440" cy="48974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1341360"/>
            <a:ext cx="3311280" cy="403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80000" y="1700280"/>
            <a:ext cx="2447640" cy="3384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4080" y="996840"/>
            <a:ext cx="1721520" cy="36828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65m x H:6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14960" y="1709640"/>
            <a:ext cx="1721520" cy="368280"/>
          </a:xfrm>
          <a:prstGeom prst="rect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61m x H:6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451640" y="98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04000" y="9079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88000" y="134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50360" y="928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00720" y="1700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73960" y="1386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72680" y="1333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2240" y="2357280"/>
            <a:ext cx="1721520" cy="36828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57m x H:5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8160" y="54450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4920" y="5013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51640" y="46465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Fidu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84360" y="1125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19162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6000" y="256536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9280" y="380844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T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0920" y="4005360"/>
            <a:ext cx="122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91440" y="5969160"/>
            <a:ext cx="30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aseline MEMPHYS 13/2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E Camp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8:16:34Z</dcterms:created>
  <dc:creator>J.E Campagne</dc:creator>
  <dc:description/>
  <dc:language>en-US</dc:language>
  <cp:lastModifiedBy>J.E Campagne</cp:lastModifiedBy>
  <dcterms:modified xsi:type="dcterms:W3CDTF">2006-02-13T08:16:55Z</dcterms:modified>
  <cp:revision>1</cp:revision>
  <dc:subject/>
  <dc:title>Diapositive 1</dc:title>
</cp:coreProperties>
</file>